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png" ContentType="image/png"/>
  <Override PartName="/ppt/media/image26.png" ContentType="image/png"/>
  <Override PartName="/ppt/media/image3.png" ContentType="image/png"/>
  <Override PartName="/ppt/media/image6.png" ContentType="image/png"/>
  <Override PartName="/ppt/media/image3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55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9.png" ContentType="image/png"/>
  <Override PartName="/ppt/media/image52.wmf" ContentType="image/x-wmf"/>
  <Override PartName="/ppt/media/image53.png" ContentType="image/png"/>
  <Override PartName="/ppt/media/image42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9.wmf" ContentType="image/x-wmf"/>
  <Override PartName="/ppt/media/image39.wmf" ContentType="image/x-wmf"/>
  <Override PartName="/ppt/media/image14.png" ContentType="image/png"/>
  <Override PartName="/ppt/media/image54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363CD8D-D4FE-4964-8241-6DA6F17D2F0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10DF5FD-90C0-4FC7-954B-C76DD2BBBA2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F8F-2ED4-43FB-96AD-E73EA5A0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98D-CBF4-447A-AB96-1BDDEE8C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5C5-039C-4949-8A88-C97D0087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5E5-F354-43F3-81FF-01A5C4B4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7FDF-EE0E-45B2-8497-B3BF55CD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9416-B6D9-4E9B-B174-D1237DFD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E2BB-38F4-42E6-AE09-049E439F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E899-1806-42D9-986C-7E7FA4D2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00A2-7FBA-4B78-95C2-AF5D3AE4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1898-525D-4B72-BC42-B82D2D67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A9B3-97D3-4D72-ACA1-D506B572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7E3-F9E6-4A73-B39B-E8DBF7AE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0A40-A46A-4600-AC01-B6C260FD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096D-5455-4D79-813B-4D87E485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755F-29D3-4D6B-8338-D1876E3D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045B-BF69-457E-A9A2-171FCFF5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E0F3-8F49-4C47-A143-B59080F0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BCE1F-2A83-459E-B45D-7C83C334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0B190-A658-4131-927D-5BC78FDB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BDCF-5241-4CD8-9966-B16F6913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04EF3-79FC-4A01-A877-F353246A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D11F6-414E-4F3D-B12D-677EEDE6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AF5-4557-4D59-B90A-7F04E261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AA5AE-BDB0-46FB-9806-8D92EAA5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434D3-8851-4A69-87EA-8ABCAB27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0AD47-546D-4B74-BB39-158AD284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FC5BE-D171-48B4-ACFE-99A0B585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9DC0A-7DFF-4F2C-AFC0-91F3A872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4C4A5-617B-4295-8C6B-2F066DA5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0B671-95F6-403C-BB97-FA8B0D61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1CB9A-2D7F-4913-B7D2-D5871967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AD15-F63F-4875-94C9-E2634798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5D4B9-743D-48DE-951E-DF968761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6F6-D283-4FB4-A372-E4EF733B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BBECC-8091-4B27-AB27-089E681C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2CC09-7ECE-4F08-BD5E-5B164F88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3308B-7319-426C-96A0-3DA04AC4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52377-9456-40A2-B037-68D0054B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EB14D-C7D4-414E-BA4D-FDFA9FC9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753FB-BFB0-41D3-863F-C1850FBC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EA5E2-D5AD-4811-9123-0B3174A4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78693-88DE-4CEC-843B-A0F4A3D7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82C1B-B3B1-4498-B3EA-9CA50C1C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B46D3-95B4-4181-A316-F3D1346F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84A-F60F-487A-B246-3A37CB20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B33BA-F5C4-4F97-8887-DCD1881A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444DE-8D3C-4A9B-AB7C-A513B789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48FF8-4A1F-4D35-A8F5-4C61F0B6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FB1BA-489D-4355-9E93-295E6A5A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88280-5174-4965-904A-EE80FAAD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C9694-BBBC-4272-B343-EA566008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433C8-8E71-4E98-A7F0-0C6DD20B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D84D8-9FA3-4586-93AD-B05B47F3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92334-8FF3-42EC-B578-7CC59F2F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CAA03-7623-4E20-9686-D101E771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5495-79B0-44F8-9A91-FED07095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FCC0A-D7D8-4DD1-9837-993EDB9E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659-7CC5-4484-9822-06CE221A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F90-03CE-495A-B467-7A9CD458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C8D-D445-4216-B76B-DC47E041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3847-8CE4-423D-A733-4EB0374A5F67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4327-3893-45EC-A037-FA8DBE1FE7D7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828D-C206-4F19-9DBE-1B9B6A3AEE0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92E5-55AC-46AA-B71D-55ADD25C50F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5B1D-B829-415F-8CDD-150D1E1C2A0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doh.gov.tw/CHT2006/DM/DM2_2.aspx?now_fod_list_no=12938&amp;class_no=440&amp;level_no=3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2.06.0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1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CF8C-C4AE-494E-8548-6EB3E374DAC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509760" y="836640"/>
            <a:ext cx="81756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3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8928000" cy="3166920"/>
          </a:xfrm>
          <a:prstGeom prst="rect">
            <a:avLst/>
          </a:prstGeom>
          <a:ln w="0">
            <a:noFill/>
          </a:ln>
        </p:spPr>
      </p:pic>
      <p:sp>
        <p:nvSpPr>
          <p:cNvPr id="32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5334-7965-4ABE-A2F3-F31DF86FA76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D54A-02BE-4DF9-A31C-C5E1C0F3C24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9C21-8B7A-4371-AB26-B466CD14763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"/>
          <p:cNvPicPr/>
          <p:nvPr/>
        </p:nvPicPr>
        <p:blipFill>
          <a:blip r:embed="rId1"/>
          <a:stretch/>
        </p:blipFill>
        <p:spPr>
          <a:xfrm>
            <a:off x="541440" y="765000"/>
            <a:ext cx="8161200" cy="5400720"/>
          </a:xfrm>
          <a:prstGeom prst="rect">
            <a:avLst/>
          </a:prstGeom>
          <a:ln w="0">
            <a:noFill/>
          </a:ln>
        </p:spPr>
      </p:pic>
      <p:sp>
        <p:nvSpPr>
          <p:cNvPr id="33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EABA-041E-4891-B256-F92B0FC46E7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9" descr=""/>
          <p:cNvPicPr/>
          <p:nvPr/>
        </p:nvPicPr>
        <p:blipFill>
          <a:blip r:embed="rId1"/>
          <a:stretch/>
        </p:blipFill>
        <p:spPr>
          <a:xfrm>
            <a:off x="108000" y="506520"/>
            <a:ext cx="8928000" cy="5823000"/>
          </a:xfrm>
          <a:prstGeom prst="rect">
            <a:avLst/>
          </a:prstGeom>
          <a:ln w="0">
            <a:noFill/>
          </a:ln>
        </p:spPr>
      </p:pic>
      <p:sp>
        <p:nvSpPr>
          <p:cNvPr id="33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2132-A5A0-462C-A766-87C490FD6AD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B512-943C-463C-97A1-EE791BF45AC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0FE8-257D-4949-A7B9-8330D37131B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DA7A-028F-457C-89BC-1A77A6E6D32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0" y="533520"/>
            <a:ext cx="9107640" cy="577512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347D-80A6-4CEE-A217-97CB557E445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5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5832360"/>
          </a:xfrm>
          <a:prstGeom prst="rect">
            <a:avLst/>
          </a:prstGeom>
          <a:ln w="0">
            <a:noFill/>
          </a:ln>
        </p:spPr>
      </p:pic>
      <p:sp>
        <p:nvSpPr>
          <p:cNvPr id="34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2337-0DB5-4198-92CB-2C2C72168C9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5798-D939-4E4F-A56B-4DCF636AF96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ACAF-FFAE-43F3-9128-BB3658396E0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33BC-EFB7-4C31-90CC-F26F9E7B47C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108000" y="601560"/>
            <a:ext cx="8928000" cy="5662800"/>
          </a:xfrm>
          <a:prstGeom prst="rect">
            <a:avLst/>
          </a:prstGeom>
          <a:ln w="0">
            <a:noFill/>
          </a:ln>
        </p:spPr>
      </p:pic>
      <p:sp>
        <p:nvSpPr>
          <p:cNvPr id="355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9AF7-6163-400F-A3D5-78B034A7DA0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FF35-987A-40D7-8486-74DB7341FD2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4E53-10AE-4F27-A465-1591DE2F7D8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9036000" cy="5560920"/>
          </a:xfrm>
          <a:prstGeom prst="rect">
            <a:avLst/>
          </a:prstGeom>
          <a:ln w="0">
            <a:noFill/>
          </a:ln>
        </p:spPr>
      </p:pic>
      <p:sp>
        <p:nvSpPr>
          <p:cNvPr id="36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4BA9-51C3-4B58-ACBC-7E260F322EC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標題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7997760" cy="104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569080" cy="5226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3619440" y="1125360"/>
            <a:ext cx="4300560" cy="2578320"/>
          </a:xfrm>
          <a:prstGeom prst="rect">
            <a:avLst/>
          </a:prstGeom>
          <a:ln w="0">
            <a:noFill/>
          </a:ln>
        </p:spPr>
      </p:pic>
      <p:sp>
        <p:nvSpPr>
          <p:cNvPr id="36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1A31-27E3-48B8-AD1D-9C66AE49E56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9010440" cy="5592960"/>
          </a:xfrm>
          <a:prstGeom prst="rect">
            <a:avLst/>
          </a:prstGeom>
          <a:ln w="0">
            <a:noFill/>
          </a:ln>
        </p:spPr>
      </p:pic>
      <p:sp>
        <p:nvSpPr>
          <p:cNvPr id="36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1FEA-FAF6-4384-BFCA-2E7C0B975C2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5B4D-582C-4759-87BD-2DFA1F2AEDB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B251-2D75-427F-A013-BD66CFCFD9E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5280" y="1046160"/>
            <a:ext cx="8389800" cy="5400720"/>
          </a:xfrm>
          <a:prstGeom prst="rect">
            <a:avLst/>
          </a:prstGeom>
          <a:ln w="0">
            <a:noFill/>
          </a:ln>
        </p:spPr>
      </p:pic>
      <p:pic>
        <p:nvPicPr>
          <p:cNvPr id="245" name="標題 1" descr=""/>
          <p:cNvPicPr/>
          <p:nvPr/>
        </p:nvPicPr>
        <p:blipFill>
          <a:blip r:embed="rId2"/>
          <a:stretch/>
        </p:blipFill>
        <p:spPr>
          <a:xfrm>
            <a:off x="304920" y="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24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9A04-7C33-4C55-852A-AB7CF29E63D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2484360" y="4011480"/>
            <a:ext cx="4496040" cy="1113120"/>
          </a:xfrm>
          <a:prstGeom prst="rect">
            <a:avLst/>
          </a:prstGeom>
          <a:ln w="0">
            <a:noFill/>
          </a:ln>
        </p:spPr>
      </p:pic>
      <p:sp>
        <p:nvSpPr>
          <p:cNvPr id="248" name="日期版面配置區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頁尾版面配置區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928000" cy="5545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6"/>
          <p:cNvSpPr/>
          <p:nvPr/>
        </p:nvSpPr>
        <p:spPr>
          <a:xfrm>
            <a:off x="900000" y="39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傷害，自殺及惡性腫瘤為青年前三大死因，三者合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7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成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5EB9-C3D0-4FB3-9AEB-53D40EA53E4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91D5-C440-409A-903E-377D3EF11E5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1F36-FDF6-41E2-B03F-F1849458715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11160" y="692280"/>
            <a:ext cx="9132840" cy="5486400"/>
          </a:xfrm>
          <a:prstGeom prst="rect">
            <a:avLst/>
          </a:prstGeom>
          <a:ln w="0">
            <a:noFill/>
          </a:ln>
        </p:spPr>
      </p:pic>
      <p:sp>
        <p:nvSpPr>
          <p:cNvPr id="38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D3ED-7408-4E6F-A633-9085B933F80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D455-B0B3-473D-B00C-908CC0225E1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B63F-822E-4AC9-BA8A-4BC157E7B2A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619960"/>
          </a:xfrm>
          <a:prstGeom prst="rect">
            <a:avLst/>
          </a:prstGeom>
          <a:ln w="0">
            <a:noFill/>
          </a:ln>
        </p:spPr>
      </p:pic>
      <p:sp>
        <p:nvSpPr>
          <p:cNvPr id="39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9B74-DA29-4EA8-BAE3-E345A6602E6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2EBA-15AF-4364-8A30-8DC6E01F902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27CC-8334-40D5-870F-EADDBF5F425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1"/>
          <a:stretch/>
        </p:blipFill>
        <p:spPr>
          <a:xfrm>
            <a:off x="92160" y="404640"/>
            <a:ext cx="8943840" cy="5761080"/>
          </a:xfrm>
          <a:prstGeom prst="rect">
            <a:avLst/>
          </a:prstGeom>
          <a:ln w="0">
            <a:noFill/>
          </a:ln>
        </p:spPr>
      </p:pic>
      <p:sp>
        <p:nvSpPr>
          <p:cNvPr id="39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0E93-E03F-4825-8DAA-8D1563F2B5E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37C0-A297-41A6-9751-17877B19ED8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158040" cy="4572000"/>
          </a:xfrm>
          <a:prstGeom prst="rect">
            <a:avLst/>
          </a:prstGeom>
          <a:ln w="0">
            <a:noFill/>
          </a:ln>
        </p:spPr>
      </p:pic>
      <p:sp>
        <p:nvSpPr>
          <p:cNvPr id="40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85A0-50BA-4A82-90CF-34F1F7DC8E6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5329440"/>
          </a:xfrm>
          <a:prstGeom prst="rect">
            <a:avLst/>
          </a:prstGeom>
          <a:ln w="0">
            <a:noFill/>
          </a:ln>
        </p:spPr>
      </p:pic>
      <p:sp>
        <p:nvSpPr>
          <p:cNvPr id="40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171E-1226-4B84-9AF8-A3DE4BA1E35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34FC-1D11-4A0D-8A25-AF10AF522C7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9F02-8EA1-4A7C-80AB-01C9F3D12D3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圖表 7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4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7972-26D7-4B98-9A75-45A5835E76D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39A5-A574-4E80-95F1-A978133FD54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圖表 7" descr=""/>
          <p:cNvPicPr/>
          <p:nvPr/>
        </p:nvPicPr>
        <p:blipFill>
          <a:blip r:embed="rId1"/>
          <a:stretch/>
        </p:blipFill>
        <p:spPr>
          <a:xfrm>
            <a:off x="0" y="689040"/>
            <a:ext cx="9253440" cy="5333760"/>
          </a:xfrm>
          <a:prstGeom prst="rect">
            <a:avLst/>
          </a:prstGeom>
          <a:ln w="0">
            <a:noFill/>
          </a:ln>
        </p:spPr>
      </p:pic>
      <p:sp>
        <p:nvSpPr>
          <p:cNvPr id="41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039C-6513-464F-96F9-2AED1A1A756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4" descr=""/>
          <p:cNvPicPr/>
          <p:nvPr/>
        </p:nvPicPr>
        <p:blipFill>
          <a:blip r:embed="rId1"/>
          <a:stretch/>
        </p:blipFill>
        <p:spPr>
          <a:xfrm>
            <a:off x="-9360" y="1378080"/>
            <a:ext cx="9162720" cy="4108320"/>
          </a:xfrm>
          <a:prstGeom prst="rect">
            <a:avLst/>
          </a:prstGeom>
          <a:ln w="0">
            <a:noFill/>
          </a:ln>
        </p:spPr>
      </p:pic>
      <p:sp>
        <p:nvSpPr>
          <p:cNvPr id="418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49F8-92BC-49BF-8F07-0ED1F09925B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02A0-DDEC-48A8-BB9B-9EF98C65E1D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5"/>
          <p:cNvGrpSpPr/>
          <p:nvPr/>
        </p:nvGrpSpPr>
        <p:grpSpPr>
          <a:xfrm>
            <a:off x="14040" y="5119560"/>
            <a:ext cx="1838880" cy="432360"/>
            <a:chOff x="14040" y="5119560"/>
            <a:chExt cx="1838880" cy="432360"/>
          </a:xfrm>
        </p:grpSpPr>
        <p:sp>
          <p:nvSpPr>
            <p:cNvPr id="421" name="Text Box 12"/>
            <p:cNvSpPr/>
            <p:nvPr/>
          </p:nvSpPr>
          <p:spPr>
            <a:xfrm>
              <a:off x="1404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82836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530360" y="51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B7D3-FFDE-4F50-AC96-CD75068176C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1" descr=""/>
          <p:cNvPicPr/>
          <p:nvPr/>
        </p:nvPicPr>
        <p:blipFill>
          <a:blip r:embed="rId1"/>
          <a:stretch/>
        </p:blipFill>
        <p:spPr>
          <a:xfrm>
            <a:off x="-96840" y="600120"/>
            <a:ext cx="9339120" cy="5664240"/>
          </a:xfrm>
          <a:prstGeom prst="rect">
            <a:avLst/>
          </a:prstGeom>
          <a:ln w="0">
            <a:noFill/>
          </a:ln>
        </p:spPr>
      </p:pic>
      <p:sp>
        <p:nvSpPr>
          <p:cNvPr id="4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EC67-362C-40D6-8DDA-FDD73D89536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F01C-BBB1-479B-9B68-EB75E5EA132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6672240" cy="400032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52" name="爆炸 2 7"/>
          <p:cNvSpPr/>
          <p:nvPr/>
        </p:nvSpPr>
        <p:spPr>
          <a:xfrm>
            <a:off x="5292720" y="836640"/>
            <a:ext cx="3348000" cy="1989000"/>
          </a:xfrm>
          <a:prstGeom prst="irregularSeal2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01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年國人死亡人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53,823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爆炸 2 8"/>
          <p:cNvSpPr/>
          <p:nvPr/>
        </p:nvSpPr>
        <p:spPr>
          <a:xfrm>
            <a:off x="179280" y="3860640"/>
            <a:ext cx="3348000" cy="1989360"/>
          </a:xfrm>
          <a:prstGeom prst="irregularSeal2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5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歲以上占率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男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4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女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7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4518000" cy="19890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F66C-50E8-4F70-82B3-0CE43B3435E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C9A6-7EB7-4BDA-97A7-5A202C83A63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0" descr=""/>
          <p:cNvPicPr/>
          <p:nvPr/>
        </p:nvPicPr>
        <p:blipFill>
          <a:blip r:embed="rId1"/>
          <a:stretch/>
        </p:blipFill>
        <p:spPr>
          <a:xfrm>
            <a:off x="-541440" y="538200"/>
            <a:ext cx="10009440" cy="5267160"/>
          </a:xfrm>
          <a:prstGeom prst="rect">
            <a:avLst/>
          </a:prstGeom>
          <a:ln w="0">
            <a:noFill/>
          </a:ln>
        </p:spPr>
      </p:pic>
      <p:sp>
        <p:nvSpPr>
          <p:cNvPr id="43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CAAC-0BCB-4DCF-8913-1C2B1826D48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0" descr=""/>
          <p:cNvPicPr/>
          <p:nvPr/>
        </p:nvPicPr>
        <p:blipFill>
          <a:blip r:embed="rId1"/>
          <a:stretch/>
        </p:blipFill>
        <p:spPr>
          <a:xfrm>
            <a:off x="63360" y="836640"/>
            <a:ext cx="8940960" cy="4797360"/>
          </a:xfrm>
          <a:prstGeom prst="rect">
            <a:avLst/>
          </a:prstGeom>
          <a:ln w="0">
            <a:noFill/>
          </a:ln>
        </p:spPr>
      </p:pic>
      <p:sp>
        <p:nvSpPr>
          <p:cNvPr id="43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9B9A-51FF-4BB8-8C93-59184E2C665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EDBA-5AE2-47DA-B18E-1DFFFB46C93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3552-6DBE-48B8-9C6E-82871190B8F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BE34-AE61-4582-B6A7-612D6807E34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34920" y="550800"/>
            <a:ext cx="9039240" cy="5111640"/>
          </a:xfrm>
          <a:prstGeom prst="rect">
            <a:avLst/>
          </a:prstGeom>
          <a:ln w="0">
            <a:noFill/>
          </a:ln>
        </p:spPr>
      </p:pic>
      <p:sp>
        <p:nvSpPr>
          <p:cNvPr id="4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7C3C-C674-4D49-8114-1E5146CB9C1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圖表 9" descr=""/>
          <p:cNvPicPr/>
          <p:nvPr/>
        </p:nvPicPr>
        <p:blipFill>
          <a:blip r:embed="rId1"/>
          <a:stretch/>
        </p:blipFill>
        <p:spPr>
          <a:xfrm>
            <a:off x="0" y="463680"/>
            <a:ext cx="9259920" cy="5638680"/>
          </a:xfrm>
          <a:prstGeom prst="rect">
            <a:avLst/>
          </a:prstGeom>
          <a:ln w="0">
            <a:noFill/>
          </a:ln>
        </p:spPr>
      </p:pic>
      <p:sp>
        <p:nvSpPr>
          <p:cNvPr id="44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C61F-59BD-475F-9897-098E308420A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5F88-C04F-45B7-A282-D56E2C4E9FA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5902-0816-49F7-AEEF-57FDE0CC00F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179280" y="804960"/>
            <a:ext cx="8856720" cy="5298840"/>
          </a:xfrm>
          <a:prstGeom prst="rect">
            <a:avLst/>
          </a:prstGeom>
          <a:ln w="0">
            <a:noFill/>
          </a:ln>
        </p:spPr>
      </p:pic>
      <p:sp>
        <p:nvSpPr>
          <p:cNvPr id="4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B110-6701-4B27-836B-857BD4A052F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圖表 7" descr=""/>
          <p:cNvPicPr/>
          <p:nvPr/>
        </p:nvPicPr>
        <p:blipFill>
          <a:blip r:embed="rId1"/>
          <a:stretch/>
        </p:blipFill>
        <p:spPr>
          <a:xfrm>
            <a:off x="-23760" y="433440"/>
            <a:ext cx="9101160" cy="6156360"/>
          </a:xfrm>
          <a:prstGeom prst="rect">
            <a:avLst/>
          </a:prstGeom>
          <a:ln w="0">
            <a:noFill/>
          </a:ln>
        </p:spPr>
      </p:pic>
      <p:sp>
        <p:nvSpPr>
          <p:cNvPr id="45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7FDC-56CB-401B-8194-55379544111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2DCD-FC0F-4A9E-9988-92765767986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0156-8F37-4EEF-9C00-03AD33D4E94D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484360" y="692280"/>
            <a:ext cx="424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465" name="文字方塊 3"/>
          <p:cNvSpPr/>
          <p:nvPr/>
        </p:nvSpPr>
        <p:spPr>
          <a:xfrm>
            <a:off x="900000" y="3429000"/>
            <a:ext cx="684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年死因資料網址：</a:t>
            </a:r>
            <a:r>
              <a:rPr b="1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衛生統計資訊網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標楷體"/>
                <a:ea typeface="標楷體"/>
                <a:hlinkClick r:id="rId1"/>
              </a:rPr>
              <a:t>http://www.doh.gov.tw/CHT2006/DM/DM2_2.aspx?now_fod_list_no=12938&amp;class_no=440&amp;level_no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6916680" cy="421956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4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6"/>
          <p:cNvSpPr/>
          <p:nvPr/>
        </p:nvSpPr>
        <p:spPr>
          <a:xfrm>
            <a:off x="5310360" y="22050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4894560" y="34988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2786400" y="2801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3790800" y="4067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726160" y="34704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2779560" y="31399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3019320" y="3500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爆炸 1 13"/>
          <p:cNvSpPr/>
          <p:nvPr/>
        </p:nvSpPr>
        <p:spPr>
          <a:xfrm>
            <a:off x="5435640" y="0"/>
            <a:ext cx="3492360" cy="1628640"/>
          </a:xfrm>
          <a:prstGeom prst="irregularSeal1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自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2700360" y="4865760"/>
            <a:ext cx="5045040" cy="169236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D6B5-F236-43A1-8565-01424A79769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標題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63640" y="1125360"/>
            <a:ext cx="7499160" cy="5123160"/>
          </a:xfrm>
          <a:prstGeom prst="rect">
            <a:avLst/>
          </a:prstGeom>
          <a:ln w="0">
            <a:noFill/>
          </a:ln>
        </p:spPr>
      </p:pic>
      <p:sp>
        <p:nvSpPr>
          <p:cNvPr id="27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EA1D-1344-4E9F-BE0D-C6F7A278450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2656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9" name="Line 7"/>
          <p:cNvSpPr/>
          <p:nvPr/>
        </p:nvSpPr>
        <p:spPr>
          <a:xfrm flipH="1">
            <a:off x="4356000" y="2276640"/>
            <a:ext cx="43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4356000" y="227628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H="1">
            <a:off x="4356000" y="2997360"/>
            <a:ext cx="432000" cy="718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 flipH="1">
            <a:off x="4356000" y="3716280"/>
            <a:ext cx="432000" cy="115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4355640" y="4436640"/>
            <a:ext cx="43020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字方塊 6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字方塊 2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字方塊 2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字方塊 25"/>
          <p:cNvSpPr/>
          <p:nvPr/>
        </p:nvSpPr>
        <p:spPr>
          <a:xfrm>
            <a:off x="2050920" y="357336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6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字方塊 26"/>
          <p:cNvSpPr/>
          <p:nvPr/>
        </p:nvSpPr>
        <p:spPr>
          <a:xfrm>
            <a:off x="5148360" y="3573360"/>
            <a:ext cx="17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6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字方塊 1"/>
          <p:cNvSpPr/>
          <p:nvPr/>
        </p:nvSpPr>
        <p:spPr>
          <a:xfrm>
            <a:off x="0" y="1628640"/>
            <a:ext cx="4316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A886-640A-4BE8-ABE5-D0D0B3F2592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標題 1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86640" cy="1212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319880" cy="5211720"/>
          </a:xfrm>
          <a:prstGeom prst="rect">
            <a:avLst/>
          </a:prstGeom>
          <a:ln w="0">
            <a:noFill/>
          </a:ln>
        </p:spPr>
      </p:pic>
      <p:sp>
        <p:nvSpPr>
          <p:cNvPr id="29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C30F-5692-41CC-B5E3-75358C5E1AD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5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928000" cy="41767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00" name="Line 7"/>
          <p:cNvSpPr/>
          <p:nvPr/>
        </p:nvSpPr>
        <p:spPr>
          <a:xfrm flipH="1" flipV="1">
            <a:off x="4284720" y="328464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4284720" y="4724280"/>
            <a:ext cx="50328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4356000" y="3645000"/>
            <a:ext cx="432000" cy="151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字方塊 12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字方塊 1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字方塊 1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字方塊 15"/>
          <p:cNvSpPr/>
          <p:nvPr/>
        </p:nvSpPr>
        <p:spPr>
          <a:xfrm>
            <a:off x="1908000" y="4508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8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字方塊 17"/>
          <p:cNvSpPr/>
          <p:nvPr/>
        </p:nvSpPr>
        <p:spPr>
          <a:xfrm>
            <a:off x="5148360" y="4508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4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13"/>
          <p:cNvSpPr/>
          <p:nvPr/>
        </p:nvSpPr>
        <p:spPr>
          <a:xfrm>
            <a:off x="-33480" y="1557360"/>
            <a:ext cx="433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90DE-9B74-4CBF-82E7-30198ED0B83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標題 1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12120" cy="963360"/>
          </a:xfrm>
          <a:prstGeom prst="rect">
            <a:avLst/>
          </a:prstGeom>
          <a:ln w="0">
            <a:noFill/>
          </a:ln>
        </p:spPr>
      </p:pic>
      <p:sp>
        <p:nvSpPr>
          <p:cNvPr id="313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D8E8-AF7D-44A3-89BD-1E34D43A392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2"/>
          <a:stretch/>
        </p:blipFill>
        <p:spPr>
          <a:xfrm>
            <a:off x="115920" y="620640"/>
            <a:ext cx="8928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1年死因記者會簡報</cp:keywords>
  <dc:language>en-US</dc:language>
  <cp:lastModifiedBy>st21wt</cp:lastModifiedBy>
  <dcterms:modified xsi:type="dcterms:W3CDTF">2013-06-03T05:42:56Z</dcterms:modified>
  <cp:revision>617</cp:revision>
  <dc:subject>衛生署中英文網站</dc:subject>
  <dc:title>民國101年死因記者會簡報</dc:title>
</cp:coreProperties>
</file>